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D00B6B7-F0B8-4AAA-987A-C8ACB2513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352A24F-5D9A-40F8-851D-235BDEDFC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771C52E-B5A5-4157-A0A6-D510BEB2029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1B585E6-AD6A-4CA1-9797-A4ED5AD24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04CB910-7D2B-453B-BE39-4A47C1A0E16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73BEFD9-514A-4980-A4BE-17309281C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1C5B62C-254D-4FAB-B0BA-C21466752B9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98A3769-E9F5-4C67-9EF5-0F2AE4120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28A8BAF-981F-4A59-93A1-E7A5ACA890B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8E96429-E1B7-4185-AAAC-B7CB7CE0C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FFF8AEF-6CF0-41B8-9F7B-B5F0DBABAAC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740BA6F-C4CE-4541-81E1-AD2BA28D5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ED7486A-4919-4DCB-A63F-6201994602B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DA2756F-BA2B-47AF-BED3-4DA66052B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05242B5-1526-4313-B8A6-62C28C1C4BD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1422472-B231-424C-B7C9-C986E5908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8D0C15F-9F79-46B9-B577-77716A15660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51458FA-67F1-44C0-9177-C04E2A8A4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C656291-C75D-417C-B154-39C69DE009A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F35F8FE-D9FE-44A1-B06F-DBC8FF0DE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C9338F4-9E46-4110-96DC-C1A9A7E64C8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AFDC127-2399-40F9-8A33-816852EB9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14D4433-BB76-48E2-84FE-DB1D2E18EE2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7EC0FF0-851D-486C-B80F-695677C9C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90AD02B-1954-40A0-BDC4-F4BBB77CF04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F17DF30-A001-4C5E-965A-E15FC8CAB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9793831-8C2F-4C35-A95F-0F12DC36977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1A72026-1B79-4F48-A6ED-A50A8B2F5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Espaço Reservado para Rodapé 3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Espaço Reservado para Número de Slide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6A9C5F6-3E6A-42B7-BCC6-747AF02F481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D644C67-A2EF-4FE4-95B0-47C77EE22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quencia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ram a interação entre os objetos através de raias que são colocadas sempre à direita de cada novo objeto, as mensagens para cada objeto seguem uma ordem vertical de cima para baixo, com isso a clareza dessas mensagens é evid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30DB01A-547B-4938-BE5E-5596D8FE970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0418732-B463-4DC7-BC71-59D3066BE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quencia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ram a interação entre os objetos através de raias que são colocadas sempre à direita de cada novo objeto, as mensagens para cada objeto seguem uma ordem vertical de cima para baixo, com isso a clareza dessas mensagens é evid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202BE25-87B4-4456-9736-EEE65BA170E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7C8BDB5-AD6F-4636-B625-1D45F5BA6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quencia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ram a interação entre os objetos através de raias que são colocadas sempre à direita de cada novo objeto, as mensagens para cada objeto seguem uma ordem vertical de cima para baixo, com isso a clareza dessas mensagens é evid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56808E1-7D0B-4B96-A389-A474E114A34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3603F67-6851-4894-A698-8B7EC154E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3330015-E41F-44B7-A010-FE749D27ABD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9016959-C15E-42B6-9F89-59F38ABB7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quencia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ram a interação entre os objetos através de raias que são colocadas sempre à direita de cada novo objeto, as mensagens para cada objeto seguem uma ordem vertical de cima para baixo, com isso a clareza dessas mensagens é evid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9F5D78-749F-4D81-81F4-0310E96A452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306A349-8864-4E40-9C54-39D4B3272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FAFBDA1-4500-45C8-9937-DBDCDDEEA3A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06F6F22-3281-4668-B9BE-F4ADE856A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11C710F-0022-4DDD-9430-9228D527BA7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70FA-EFB4-4127-965C-014CB4AE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53BB-318E-4DAD-B05C-0AB38883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D3D8-DC34-48F9-9BB4-50908A409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C86F-D08A-42FF-A228-F0D9FF1D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296B-AB41-43A4-9ACD-405AB1B3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1D74-9485-4FD1-A9CF-356A4EA4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97DA-FD8F-4648-B63C-7C3BF5F3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B298-42F5-4F99-AB69-532D7A13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8FBB-E320-450A-B54E-92316041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2872-AE45-44A7-82C1-4CD7ED78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0B72-07F6-4E5E-A99D-C8764040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40FC-089F-4C84-9838-1FBEF3EB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E177-8E03-4997-858D-D7CC8104FDA2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3BA8-EDE4-419F-950F-D2D7B3769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B328-70AF-42D6-9FF2-C9F10FC05D23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2532-C607-4C84-871D-BDC5088B4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060280"/>
            <a:ext cx="864216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IÊNCIA DA COMPUTAÇÃO</a:t>
            </a:r>
            <a:br>
              <a:rPr sz="3600"/>
            </a:b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DESENVOLVIMENTO DE SISTEMAS</a:t>
            </a:r>
            <a:br>
              <a:rPr sz="3600"/>
            </a:b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ula 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52" name="Espaço Reservado para Rodapé 7"/>
          <p:cNvSpPr/>
          <p:nvPr/>
        </p:nvSpPr>
        <p:spPr>
          <a:xfrm>
            <a:off x="61128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C7A4-7CE4-4A77-80F6-8FC1FA91666E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B430-52F3-4DAC-B80C-CF6B61D4A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108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ortões (Gates) - continu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odem ser representados de duas form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ncontro da seta da mensagem no retângulo da ocorrência de inter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equeno quadrado podendo ser atingido por uma mensagem ou a mensagem partindo de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1332000" y="4076640"/>
            <a:ext cx="2638440" cy="2171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3"/>
          <a:stretch/>
        </p:blipFill>
        <p:spPr>
          <a:xfrm>
            <a:off x="4500720" y="4508640"/>
            <a:ext cx="296208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AD22-6279-44E8-B6D5-D5491BE95F80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D179-BDE0-450F-A546-A0F7FDDBE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116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Fragmentos combinados (FC) e Operadores de Interação (O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Versões anteriores a UML 2.0 tinham dificuldades de modelar testes se-senão, laços ou processamentos paral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 partir da UML 2.0 dificuldades foram abordadas com uso de FC´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epresentados por um retângulo que determina abrangência do fragmento de diagrama e uma subdivisão no canto superior esquerdo para identificar a descrição do fragmento combinado e seu operador de interaç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CE4A-B018-45D1-A252-E76872F10EBE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C365-5157-4D0F-B8FB-D84E64036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122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peradores de Interação (OI) – continu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peradores mais comu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LT (Alternatives) – Define que fragmento combinado representa a escolha entre dois ou mais comporta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2843280" y="3429000"/>
            <a:ext cx="388944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460D-F3DC-4010-BB1A-E04DF47B95CF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F2B3-D190-4A9C-B445-63A929070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129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peradores de Interação (OI) – continu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LT (Alternatives) – Fragmentos combinados tem ao menos uma divisão por linha tracej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ada uma dessas divisões é chamada de separador 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perando de inter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Um fragmento combinado contem ao menos um operando de inter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pt (Option) –Determina que o fragmento combinado representa uma escolha de comportamento que será ou não executado, não tendo escolha entre maiss de um comportamento possí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39D7-6616-4A72-A9C4-826614754FC8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3F6E-558E-4E1B-A63F-E7B84C0FF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135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2"/>
          <a:stretch/>
        </p:blipFill>
        <p:spPr>
          <a:xfrm>
            <a:off x="2268360" y="1844640"/>
            <a:ext cx="448812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878B-4237-46AB-B389-BC26873A2C1A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F0B7-23AA-455B-B096-516A34768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142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ço Reservado para Conteúdo 2"/>
          <p:cNvSpPr/>
          <p:nvPr/>
        </p:nvSpPr>
        <p:spPr>
          <a:xfrm>
            <a:off x="620640" y="206856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peradores de Interação (OI) – continu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ar (Parallel) – Determina que fragmento combinado representa execução paralela de dois ou mais comportam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2627280" y="3213000"/>
            <a:ext cx="357516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7186-2734-4E4F-83C3-18DF6999A62B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9BAE-670B-4437-8ADA-234F94BD6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150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ço Reservado para Conteúdo 2"/>
          <p:cNvSpPr/>
          <p:nvPr/>
        </p:nvSpPr>
        <p:spPr>
          <a:xfrm>
            <a:off x="620640" y="206856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peradores de Interação (OI) – continu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Loop (Looping) – Determina que o fragmento combinado representa um laço que pode se repetir varias vez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2"/>
          <a:stretch/>
        </p:blipFill>
        <p:spPr>
          <a:xfrm>
            <a:off x="1835280" y="3068640"/>
            <a:ext cx="55450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B8E3-4ECD-45FB-92B6-12967395076D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6339-8770-483D-9CA8-768F99DFA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158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ço Reservado para Conteúdo 2"/>
          <p:cNvSpPr/>
          <p:nvPr/>
        </p:nvSpPr>
        <p:spPr>
          <a:xfrm>
            <a:off x="620640" y="206856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peradores de Interação (OI) – continu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Break (Quebra) Determina quebra de execução normal do processo, usado principalmente para modelar tratamento de exce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1908000" y="3357720"/>
            <a:ext cx="5616720" cy="29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E876-3702-4298-B8CD-5A3422383177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99A8-191F-4D7E-AA43-56EB8C16B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166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Espaço Reservado para Conteúdo 2"/>
          <p:cNvSpPr/>
          <p:nvPr/>
        </p:nvSpPr>
        <p:spPr>
          <a:xfrm>
            <a:off x="620640" y="206856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peradores de Interação (OI) – continu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ritical Region (Região critica) – Identifica operação atômica que não pode ser interrompida por outro processo até ser concluí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1333440" y="3213000"/>
            <a:ext cx="59515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9276-3A7C-4148-AA7B-45B3A666A342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2539-B749-485B-8B61-0C0BEE191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174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ço Reservado para Conteúdo 2"/>
          <p:cNvSpPr/>
          <p:nvPr/>
        </p:nvSpPr>
        <p:spPr>
          <a:xfrm>
            <a:off x="620640" y="206856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stado invariante – Restrição de tempo de execução aplicada aos participantes da Inte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ode ser usada para especificar diferentes tipos de restrições como valores ou atributos variáveis, estados internos ou exter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É um fragmento de interação e deve ser colocado sobre a linha da v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5C38-61E0-4B65-81F4-7726758D4441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12B0-2E9F-44D1-9536-CC6DC356F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56" name="Espaço Reservado para Rodapé 7"/>
          <p:cNvSpPr/>
          <p:nvPr/>
        </p:nvSpPr>
        <p:spPr>
          <a:xfrm>
            <a:off x="755640" y="6165720"/>
            <a:ext cx="82090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spaço Reservado para Conteúdo 2"/>
          <p:cNvSpPr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iagrama de sequenci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nsagens perdidas e Mensagens encontr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r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ragmentos de Ope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corrências de Inte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rtões (Ga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ragmentos combinados e operadores de Inter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do Invar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rc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Bibliograf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D553-D0D8-4F26-9321-BB436987D748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19E9-6202-44DF-8462-9F874141E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181" name="Espaço Reservado para Rodapé 7"/>
          <p:cNvSpPr/>
          <p:nvPr/>
        </p:nvSpPr>
        <p:spPr>
          <a:xfrm>
            <a:off x="755640" y="6165720"/>
            <a:ext cx="82090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Espaço Reservado para Conteúdo 2"/>
          <p:cNvSpPr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539640" y="1844640"/>
            <a:ext cx="80852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ercíci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 base no Material de apoio, reúna os grupos e temas utilizados nos trabalhos anteriores  desenvolva os diagramas de sequencia relacionado a cada gru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6766-BFB8-4C56-873C-DEE1BDB1DE46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1949-C9D9-4761-8173-631AD54B9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Espaço Reservado para Rodapé 3"/>
          <p:cNvSpPr/>
          <p:nvPr/>
        </p:nvSpPr>
        <p:spPr>
          <a:xfrm>
            <a:off x="1476360" y="6237360"/>
            <a:ext cx="6697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Imagem 15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611280" y="1197000"/>
          <a:ext cx="7921440" cy="4824360"/>
        </p:xfrm>
        <a:graphic>
          <a:graphicData uri="http://schemas.openxmlformats.org/drawingml/2006/table">
            <a:tbl>
              <a:tblPr/>
              <a:tblGrid>
                <a:gridCol w="780840"/>
                <a:gridCol w="7140600"/>
              </a:tblGrid>
              <a:tr h="201600">
                <a:tc gridSpan="2">
                  <a:txBody>
                    <a:bodyPr lIns="66240" rIns="66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BLIOGRAFIA BÁ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76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UEDES, Gilleanes T.A.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UML 2: Uma Abordagem Prática. 1ª Edição. São Paulo: Novatec, 200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ZLAWICK, Raul Sidnei.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e e Projeto de Sistemas de Informação Orientados a Objetos.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ª Edição. Rio de Janeiro: Campus, 20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ST, David; MCLAUGHLIN, Brett; POLLICE, Gary.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 a cabeça Análise &amp; Projeto Orientado ao Objeto.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ª Edição. Rio de Janeiro: Alta Books, 200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 gridSpan="2">
                  <a:txBody>
                    <a:bodyPr lIns="66240" rIns="66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600">
                <a:tc gridSpan="2">
                  <a:txBody>
                    <a:bodyPr lIns="66240" rIns="66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BLIOGRAFIA COMPLEMEN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300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AUJO, Ricardo;  LIMA, Cardoso André.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ML Aplicada: Da teoria à implementação.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ª Edição.  Rio de Janeiro: Ciência Moderna, 200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OCH, Grady; RUMBAUGH, James;, JACOBSON, Ivar.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ML: Guia do Usuário.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ª Edição. Rio de Janeiro: Campus, 200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RMAN, Craig.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ilizando UML e padrões: Uma introdução à análise e projeto orientados a objetos e ao desenvolvimento iterativo.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3ª Edição. Porto Alegre: Bookman, 200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ULA FILHO, Wilson de Pádua.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genharia de Software: Fundamentos, métodos e padrões.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3ª Edição. Rio de Janeiro: LTC, 200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VA, Nelson Peres da.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e e Estruturas de Sistemas de Informação.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1ª Edição. São Paulo: Érica, 200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E055-3BF0-45A8-809A-A13A1906EC86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E46C-0678-42AA-8788-3C924FF29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62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Espaço Reservado para Conteúdo 2"/>
          <p:cNvSpPr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Mensagens perdidas e Mensagens Encontr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erd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Mensagem enviada sem confirmação de recebi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ode não ter chegado ao destino ou ter sido enviada a um destino fora do diagr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ncontra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ecebimento de mensagem enviada por elemento desconhecido ou fora do diagrama ou ainda recebimento de uma mensagem que foi dada como perdida por tempo de espera exced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2559-E9BF-40E8-A6E5-CFDEB2AEE24F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84B9-4E48-4207-B08A-051C639A2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68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spaço Reservado para Conteúdo 2"/>
          <p:cNvSpPr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Mensagens perdidas e Mensagens Encontradas – continu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mbas são representadas por um circulo preench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Quando é mensagem perdida o circulo é atingido pela mensagem, quando é encontrada a mensagem  parte do circcu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pl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epresentar troca de mensagens entre objetos localizados em máquinas diferentes e distantes, com comunicação realizada por protocolo de re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7888-C242-4EBA-BC05-D6556F755A8A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B225-516B-401A-BE6B-0F78AD58F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74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Espaço Reservado para Conteúdo 2"/>
          <p:cNvSpPr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1403280" y="1916280"/>
            <a:ext cx="6210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7B9D-12E3-48AF-8ED2-0797E98A73E9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D2CD-5E00-4FFB-9DA9-7BB285450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81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ortas – Igual ao conceito explicado em diagrama de classes, representa um objeto no diagrama de sequencia contendo instancias das portas declaradas na classe a que ele pertence, dessa forma o objeto poderá ter mais de uma linha de vida permitindo representar mensagens internas e externas ao obje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s Portas sã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representadas por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etângulos abaixo do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bjeto com linhas de vid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róp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611280" y="3645000"/>
            <a:ext cx="496872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1F5F-3797-4107-ACD2-0AD106537845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2EF7-2C6D-4DA1-B51D-587029D44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88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Fragmentos de Interação – Noções abstratas de interação g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pesar de ser um fragmento de interação é considerado uma interação difer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epresentado por um retângulo que envolve toda a inte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2556000" y="3429000"/>
            <a:ext cx="388764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1A46-87AC-43C8-927A-AB2C04B324C3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70C7-9362-49FD-96C9-4C621FC7D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95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corrências de Interação – Principal vantagem do uso de fragmento de interação é referenciar outro diagrama, não detalhado no diagrama em questão, referencia-se por meio do operador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ef,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(abreviação de Referred) , passou a chamar-se Uso de interação a partir do UML 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1476360" y="3357720"/>
            <a:ext cx="615636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04EA-2BC3-493C-882C-D721211424EE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8FD9-B229-4E20-BD73-523B3A3D8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102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corrências de Interação – continu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odem ser uma simples chamada a outro fragmento de interação ou passar parâmetros e receber o retor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ssociação 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nclusã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xtensã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odem ser referenciadas no diagrama de sequencia por meio de ocorrências de interação como forma de documentar um caso de u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ortões (G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nterface entre fragmentos, ponto de conexão para relacionar uma mensagem fora de uma ocorrência de inter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9T12:46:57Z</dcterms:created>
  <dc:creator>FedEx User</dc:creator>
  <dc:description/>
  <dc:language>en-US</dc:language>
  <cp:lastModifiedBy>Leo-Pc-I7</cp:lastModifiedBy>
  <dcterms:modified xsi:type="dcterms:W3CDTF">2012-11-05T04:17:44Z</dcterms:modified>
  <cp:revision>36</cp:revision>
  <dc:subject/>
  <dc:title>Slide 1</dc:title>
</cp:coreProperties>
</file>